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D27-4972-4D41-BF85-C578E390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355-7AEC-448F-BEB5-1FA9A11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C9E-186F-4BF5-92B1-6CF102F4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00B-A3AD-449B-80B4-4BC64EB9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702-E3F3-4B24-8EFB-5D5084D1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175-00D9-493B-B5E8-8A3E904B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66E-6E8E-46EC-A4BD-36CA7A26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E61-48F9-4265-BC7C-7CA009FC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BA9-0E35-419F-BA86-2A8B0F6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592-ED54-4687-839F-C5CC8C78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472-F1C3-4F22-ADA0-B503B6C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033-F3EC-4B98-9507-FDD03DAB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E4C-B421-4910-8653-021EB9D6B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25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04920"/>
            <a:ext cx="38862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أرضِ جاءْ نبعُ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ن بيتَ لحمَ قد جاءَ النِّد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نجمٌ منير قد قاد المجو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فلٌ صغيرٌ له نحني الرؤ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BRSO021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380880"/>
            <a:ext cx="358128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للهِ مجد للكونِ س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سرورٌ خيرٌ حبْ ووِئ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Times New Roman"/>
              </a:rPr>
              <a:t>نورٌ مُشِع في وَسطِ الظل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7:01Z</dcterms:created>
  <dc:creator>SUZANNE.MD</dc:creator>
  <dc:description/>
  <dc:language>en-US</dc:language>
  <cp:lastModifiedBy>USER</cp:lastModifiedBy>
  <dcterms:modified xsi:type="dcterms:W3CDTF">2002-12-23T19:53:44Z</dcterms:modified>
  <cp:revision>2</cp:revision>
  <dc:subject/>
  <dc:title>PowerPoint Presentation</dc:title>
</cp:coreProperties>
</file>